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ederal and state laws and agency policies combine to define the roles and functions of each health team member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me states require more than 75 hours. State of Illinois requires 80 hours of theory and 40 hours of clinical practice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udents perform nursing care and procedures on another person during the practical training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nurse supervises this practical training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written test has multiple-choice question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he number of questions varies from state to stat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kills test involves performing nursing skill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re is a fee for the evaluation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If you work in a nursing center, the employer pays this fee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ates can require: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new competency evalu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oth retraining and a new competency evalu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se requirements help ensure that nursing assistants have current knowledge and skills to give safe, effective care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ach state NATCEP (Nurse Aide Training and Competency Evaluation Program) must meet OBRA (Omnibus Budget Reconciliation Act of 1987) requirement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you want to work in another state, contact the state agency responsible for NATCEPs and the nursing assistant registry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ATCEP (Nurse Aide Training and Competency Evaluation Program):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part of OBRA that sets minimum requirements for nursing assistants for training and testing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fter completion:  CNA (certified nursing assistant/aide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2057400" indent="-22860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LNA-licensed nursing assistant / aid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2057400" indent="-22860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RNA- registered nursing assistant/ aid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 nursing task is the nursing care or a nursing function, procedure, activity, or work that can be delegated to nursing assistants when it does not require an R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Lucida Grande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professional knowledge or judgment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view the rules in Box 2-1 on p. 16 in the textbook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Grande"/>
                <a:ea typeface="Lucida Grande"/>
              </a:rPr>
              <a:t>Describe the nursing assistant</a:t>
            </a:r>
            <a:r>
              <a:rPr b="1" lang="ja-JP" sz="2200" spc="-1" strike="noStrike">
                <a:solidFill>
                  <a:srgbClr val="ff0000"/>
                </a:solidFill>
                <a:latin typeface="Arial"/>
                <a:ea typeface="Lucida Grande"/>
              </a:rPr>
              <a:t>’</a:t>
            </a:r>
            <a:r>
              <a:rPr b="1" lang="en-US" sz="2200" spc="-1" strike="noStrike">
                <a:solidFill>
                  <a:srgbClr val="ff0000"/>
                </a:solidFill>
                <a:latin typeface="Lucida Grande"/>
                <a:ea typeface="Lucida Grande"/>
              </a:rPr>
              <a:t>s rol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view the contents of Box 2-2 on p. 17 in the textbook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view the Focus on Long-Term Care and Home Care: Roles and Responsibilities Box on p. 17 in the textbook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BRA defines the basic range of functions for nursing assistants. All NATCEPs include those functions. Some states allow other function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view the contents of Box 2-3 on p. 17 in the textbook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 one can force you to do something beyond the legal limits of your role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urse practice acts give nurses: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ertain responsibilit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Legal authority to perform nursing action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 responsibility is the duty or obligation to perform some act or function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Ns and licensed practical nurses (LPNs)/licensed vocational nurses (LVNs) can only delegate: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asks within their scope of practi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asks that are in the nursing assistant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  <a:ea typeface="Lucida Grande"/>
              </a:rPr>
              <a:t>’</a:t>
            </a: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 job descrip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delegating nurse must make sure that the task was completed safely and correctly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 make delegation decisions, the nurse follows a proces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pers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Lucida Grande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needs, the nursing task, and the staff member doing the task must fit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legation decisions must result in the best care for the person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he nurse may face serious legal problems for a bad decision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If you perform a task that places the person at risk, you also can face serious legal problem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view the Focus on Long-Term Care and Home Care: Communication Box on p. 23 in the textbook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eps delegation:  RN will assess resident----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lan : is it safe to do it-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safe ( proceed) / if no ( stopped)-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mmunicate to CNA (explain in details what need to be done)-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NA decide her if comfortable to do it (go or d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Lucida Grande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 do it)----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mplete the task----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pervision---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valuati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n the task be delegated?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are the pers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Lucida Grande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physical, mental, emotional, and spiritual needs at this time?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o you have the training and experience to safely perform the task for this person?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d the nurse give clear directions?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s the nurse available to guide, direct, and evaluate the care you give?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se the Five Rights of Delegation in Box 2-4 on p. 24 in the textbook to decide to agree or refuse to do a delegated task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Grande"/>
                <a:ea typeface="Lucida Grande"/>
              </a:rPr>
              <a:t>Describe the Residents for Whom You Will Care: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t is more important to understand each individual in your care than to understand the entire populati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asons to refuse task: beyond your legal limits, not your job description,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 prepared to perform task, task could harm pt, d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Lucida Grande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 know how to use supplies, not ethical/legal, against agency policy,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You have the right to say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Lucida Grande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.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Lucida Grande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hare your concerns about a delegated task with the nurse. The nurse can: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nswer your question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emonstrate the task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how you how to use supplies and equip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Help you as nee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Observe you while you perform the task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heck on you ofte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rrange for needed training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ith team nursing, care was assigned according to each pers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Lucida Grande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needs and condition. It also depended on the staff member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Lucida Grande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education and experienc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ith primary nursing, registered nurses (RNs) planned and gave care. Many hospitals only hired RNs. Nursing homes relied on nursing assistants for resident care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spective payment systems limit health care payments. Patients are discharged earlier than in the past. Often they are still quite ill and need home care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urse practice acts protect the public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Lucida Grande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welfare and safety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law protects the public from unsafe nurses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egal and advisory opinions about nursing assistants are based on the state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Lucida Grande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nurse practice act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ate laws about nursing assistant roles and functions are based on the state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Lucida Grande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nurse practice act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ursing assistants must be able to function with reasonable skill and safety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ursing assistants can have their certification, license, or registration denied, revoked, or suspended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nursing assistant training and competency evaluation program must be successfully completed by nursing assistants working in nursing centers, hospital long-term care units, and home care agencies receiving medicare fund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BRA (Omnibus Budget Reconciliation Act):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law originally passed in 1987; includes minimum standards for nursing assistant training, staffing requirements, resident assessment instructions, and information on rights for residen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269720" y="7009920"/>
            <a:ext cx="10464840" cy="1473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rmAutofit/>
          </a:bodyPr>
          <a:p>
            <a:pPr marL="851040" indent="-571680">
              <a:spcBef>
                <a:spcPts val="4799"/>
              </a:spcBef>
              <a:buClr>
                <a:srgbClr val="00bafb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bafb"/>
                </a:solidFill>
                <a:latin typeface="Gill Sans"/>
              </a:rPr>
              <a:t>The Nursing Assistan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9" name="TextBox 1" descr=""/>
          <p:cNvPicPr/>
          <p:nvPr/>
        </p:nvPicPr>
        <p:blipFill>
          <a:blip r:embed="rId1"/>
          <a:stretch/>
        </p:blipFill>
        <p:spPr>
          <a:xfrm>
            <a:off x="2077920" y="6553080"/>
            <a:ext cx="564516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43080" y="990720"/>
            <a:ext cx="12547440" cy="8191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lvl="1" marL="904680" indent="-506520">
              <a:lnSpc>
                <a:spcPct val="90000"/>
              </a:lnSpc>
              <a:buClr>
                <a:srgbClr val="fee29d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ee29d"/>
                </a:solidFill>
                <a:uFillTx/>
                <a:latin typeface="Gill Sans"/>
              </a:rPr>
              <a:t>The training progra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26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266480" indent="-43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OBRA  requires at least 75 hours of instruction.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215352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National minimum requirement: 75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2153520" indent="-198720">
              <a:lnSpc>
                <a:spcPct val="90000"/>
              </a:lnSpc>
              <a:spcBef>
                <a:spcPts val="601"/>
              </a:spcBef>
              <a:buClr>
                <a:srgbClr val="f6a1a1"/>
              </a:buClr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a1a1"/>
                </a:solidFill>
                <a:latin typeface="Gill Sans"/>
              </a:rPr>
              <a:t>Illinois requires 80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266480" indent="-43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re must be at least 16 hours of supervised practical training.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174924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National minimum requirement:16             </a:t>
            </a:r>
            <a:r>
              <a:rPr b="1" lang="en-US" sz="3600" spc="-1" strike="noStrike">
                <a:solidFill>
                  <a:srgbClr val="fee29d"/>
                </a:solidFill>
                <a:latin typeface="Gill San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1749240" indent="-217080">
              <a:lnSpc>
                <a:spcPct val="90000"/>
              </a:lnSpc>
              <a:spcBef>
                <a:spcPts val="601"/>
              </a:spcBef>
              <a:buClr>
                <a:srgbClr val="f6a1a1"/>
              </a:buClr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a1a1"/>
                </a:solidFill>
                <a:latin typeface="Gill Sans"/>
              </a:rPr>
              <a:t>Illinois requires 40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26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904680" indent="-506520">
              <a:lnSpc>
                <a:spcPct val="90000"/>
              </a:lnSpc>
              <a:spcBef>
                <a:spcPts val="601"/>
              </a:spcBef>
              <a:buClr>
                <a:srgbClr val="fee29d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29d"/>
                </a:solidFill>
                <a:latin typeface="Gill Sans"/>
              </a:rPr>
              <a:t>Competency evalu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266480" indent="-43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 competency evaluation has a written test and a skills test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266480" indent="-43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OBRA allows at least 3 attempts to successfully complete the evaluation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1" descr=""/>
          <p:cNvPicPr/>
          <p:nvPr/>
        </p:nvPicPr>
        <p:blipFill>
          <a:blip r:embed="rId1"/>
          <a:stretch/>
        </p:blipFill>
        <p:spPr>
          <a:xfrm>
            <a:off x="1293840" y="380880"/>
            <a:ext cx="10977480" cy="779796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"/>
          <p:cNvSpPr/>
          <p:nvPr/>
        </p:nvSpPr>
        <p:spPr>
          <a:xfrm>
            <a:off x="571680" y="7480440"/>
            <a:ext cx="11810880" cy="965160"/>
          </a:xfrm>
          <a:prstGeom prst="rect">
            <a:avLst/>
          </a:prstGeom>
          <a:solidFill>
            <a:srgbClr val="0081a5"/>
          </a:solidFill>
          <a:ln w="57240">
            <a:solidFill>
              <a:srgbClr val="835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Nursing assistant training programs require student practice in 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laboratory sett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549080" y="-343080"/>
            <a:ext cx="1046484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5000"/>
          </a:bodyPr>
          <a:p>
            <a:pPr marL="635400" indent="-388440">
              <a:lnSpc>
                <a:spcPct val="90000"/>
              </a:lnSpc>
              <a:spcBef>
                <a:spcPts val="4799"/>
              </a:spcBef>
              <a:buClr>
                <a:srgbClr val="fee29d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ee29d"/>
                </a:solidFill>
                <a:latin typeface="Gill Sans"/>
              </a:rPr>
              <a:t>Retraining and a new competency evaluation program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re required for nursing assistants who have </a:t>
            </a:r>
            <a:r>
              <a:rPr b="1" i="1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not worked for 24 month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635400" indent="0">
              <a:lnSpc>
                <a:spcPct val="90000"/>
              </a:lnSpc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635400" indent="-38844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gencies covered under OBRA must provide 12 hours of educational programs to nursing assistants every year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635400" indent="0">
              <a:lnSpc>
                <a:spcPct val="90000"/>
              </a:lnSpc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635400" indent="-38844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erformance reviews also are requir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253800" y="449280"/>
            <a:ext cx="12712680" cy="896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marL="591120" indent="-50652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Gill Sans"/>
              </a:rPr>
              <a:t>OBRA</a:t>
            </a: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requires a </a:t>
            </a:r>
            <a:r>
              <a:rPr b="1" lang="en-US" sz="3600" spc="-1" strike="noStrike">
                <a:solidFill>
                  <a:srgbClr val="fee29d"/>
                </a:solidFill>
                <a:latin typeface="Gill Sans"/>
              </a:rPr>
              <a:t>nursing assistant registry 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in each state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22400" indent="-43416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It is an official record or listing of persons who have successfully completed that state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 state-approved NATCEP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22400" indent="-43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 registry has information about each nursing assistant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22400" indent="-43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ll information stays in the registry for at least 5 years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22400" indent="-43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y agency can access registry information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22400" indent="-43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You receive a copy of your registry information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22400" indent="-43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You can correct wrong information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762120" y="-63360"/>
            <a:ext cx="12229920" cy="9918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784080" indent="-69696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protect persons from harm, you must understand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3840" indent="-59724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 you </a:t>
            </a:r>
            <a:r>
              <a:rPr b="0" lang="en-US" sz="4200" spc="-1" strike="noStrike">
                <a:solidFill>
                  <a:srgbClr val="fee29d"/>
                </a:solidFill>
                <a:latin typeface="Gill Sans"/>
              </a:rPr>
              <a:t>ca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d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3840" indent="-59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 you </a:t>
            </a:r>
            <a:r>
              <a:rPr b="0" lang="en-US" sz="4200" spc="-1" strike="noStrike">
                <a:solidFill>
                  <a:srgbClr val="fee29d"/>
                </a:solidFill>
                <a:latin typeface="Gill Sans"/>
              </a:rPr>
              <a:t>canno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d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3840" indent="-59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legal limits of your ro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42960" indent="-497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s is also called  </a:t>
            </a:r>
            <a:r>
              <a:rPr b="1" lang="en-US" sz="4800" spc="-1" strike="noStrike">
                <a:solidFill>
                  <a:srgbClr val="51d9fe"/>
                </a:solidFill>
                <a:latin typeface="Gill Sans"/>
              </a:rPr>
              <a:t>scope of practic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42960" indent="-497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 National Council of State Boards of Nursing (NCSBN) calls it range of function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4080" indent="-696960">
              <a:lnSpc>
                <a:spcPct val="90000"/>
              </a:lnSpc>
              <a:spcBef>
                <a:spcPts val="4799"/>
              </a:spcBef>
              <a:buClr>
                <a:srgbClr val="fee29d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fee29d"/>
                </a:solidFill>
                <a:uFillTx/>
                <a:latin typeface="Gill Sans"/>
              </a:rPr>
              <a:t>Licensed nurs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supervise your work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3840" indent="-59724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 assist them in giving car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3840" indent="-59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following are a list of tasks that are generally considered within the scope of a CNA practic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11747520" cy="9347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marL="816840" indent="-548640">
              <a:lnSpc>
                <a:spcPct val="135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rving meal trays and feeding resident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16840" indent="-548640">
              <a:lnSpc>
                <a:spcPct val="135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Helping residents dress and undres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16840" indent="-548640">
              <a:lnSpc>
                <a:spcPct val="135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Helping residents with mouth care, bathing, shaving, &amp;  backrub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16840" indent="-548640">
              <a:lnSpc>
                <a:spcPct val="135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Keeping living areas clean &amp; neat; making bed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16840" indent="-548640">
              <a:lnSpc>
                <a:spcPct val="135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ssisting residents to move around safel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16840" indent="-548640">
              <a:lnSpc>
                <a:spcPct val="135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aking vital sign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16840" indent="-548640">
              <a:lnSpc>
                <a:spcPct val="135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aring for supplies &amp; equipmen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558720" y="1117440"/>
            <a:ext cx="12179520" cy="7747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marL="597240" indent="-511920">
              <a:lnSpc>
                <a:spcPct val="81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efore you perform a nursing task, make sure that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33200" indent="0">
              <a:lnSpc>
                <a:spcPct val="81000"/>
              </a:lnSpc>
              <a:spcBef>
                <a:spcPts val="4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33200" indent="-438840">
              <a:lnSpc>
                <a:spcPct val="81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r state allows nursing assistants to do s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33200" indent="0">
              <a:lnSpc>
                <a:spcPct val="81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33200" indent="-438840">
              <a:lnSpc>
                <a:spcPct val="81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t is in your </a:t>
            </a:r>
            <a:r>
              <a:rPr b="1" lang="en-US" sz="4200" spc="-1" strike="noStrike">
                <a:solidFill>
                  <a:srgbClr val="fee29d"/>
                </a:solidFill>
                <a:latin typeface="Gill Sans"/>
              </a:rPr>
              <a:t>job descrip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33200" indent="0">
              <a:lnSpc>
                <a:spcPct val="81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33200" indent="-438840">
              <a:lnSpc>
                <a:spcPct val="81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 have </a:t>
            </a:r>
            <a:r>
              <a:rPr b="1" lang="en-US" sz="4200" spc="-1" strike="noStrike">
                <a:solidFill>
                  <a:srgbClr val="fee29d"/>
                </a:solidFill>
                <a:latin typeface="Gill Sans"/>
              </a:rPr>
              <a:t>the necessary education &amp; train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33200" indent="0">
              <a:lnSpc>
                <a:spcPct val="81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33200" indent="-438840">
              <a:lnSpc>
                <a:spcPct val="81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1" lang="en-US" sz="4200" spc="-1" strike="noStrike">
                <a:solidFill>
                  <a:srgbClr val="fee29d"/>
                </a:solidFill>
                <a:latin typeface="Gill Sans"/>
              </a:rPr>
              <a:t>nurse is available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answer questions and to supervise you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lvl="1" marL="895320" indent="-501480">
              <a:lnSpc>
                <a:spcPct val="90000"/>
              </a:lnSpc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 must know </a:t>
            </a:r>
            <a:r>
              <a:rPr b="1" lang="en-US" sz="4200" spc="-1" strike="noStrike">
                <a:solidFill>
                  <a:srgbClr val="fee29d"/>
                </a:solidFill>
                <a:latin typeface="Gill Sans"/>
              </a:rPr>
              <a:t>what you can do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the state in which you are workin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53160" indent="-42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te laws and rules </a:t>
            </a:r>
            <a:r>
              <a:rPr b="1" lang="en-US" sz="4200" spc="-1" strike="noStrike">
                <a:solidFill>
                  <a:srgbClr val="fee29d"/>
                </a:solidFill>
                <a:latin typeface="Gill Sans"/>
              </a:rPr>
              <a:t>limi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nursing assistant function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5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53160" indent="-429480">
              <a:lnSpc>
                <a:spcPct val="90000"/>
              </a:lnSpc>
              <a:spcBef>
                <a:spcPts val="601"/>
              </a:spcBef>
              <a:buClr>
                <a:srgbClr val="fee29d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ee29d"/>
                </a:solidFill>
                <a:latin typeface="Gill Sans"/>
              </a:rPr>
              <a:t>No agency or nurse can expand your range of function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beyond what is allowed by your state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 laws and rule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5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53160" indent="-42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nurse told me to do it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won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 stand up in a court of law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31280" y="317520"/>
            <a:ext cx="12573000" cy="949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lvl="2" marL="1319760" indent="-452520">
              <a:buClr>
                <a:srgbClr val="fcbd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cbd00"/>
                </a:solidFill>
                <a:uFillTx/>
                <a:latin typeface="Gill Sans"/>
              </a:rPr>
              <a:t>A job description </a:t>
            </a:r>
            <a:r>
              <a:rPr b="1" lang="en-US" sz="4200" spc="-1" strike="noStrike">
                <a:solidFill>
                  <a:srgbClr val="fee29d"/>
                </a:solidFill>
                <a:latin typeface="Gill Sans"/>
              </a:rPr>
              <a:t>describes what the agency expects you to d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319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319760" indent="-45252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dentifies educational requirem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942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942840" indent="-528120"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lways obtain a </a:t>
            </a:r>
            <a:r>
              <a:rPr b="1" lang="en-US" sz="3600" spc="-1" strike="noStrike">
                <a:solidFill>
                  <a:srgbClr val="fee29d"/>
                </a:solidFill>
                <a:latin typeface="Gill Sans"/>
              </a:rPr>
              <a:t>written job description 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hen you apply for a job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319760" indent="-45252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sk questions about it during your job interview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942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942840" indent="-528120"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Before accepting a job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319760" indent="-45252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ell the employer about </a:t>
            </a:r>
            <a:r>
              <a:rPr b="1" lang="en-US" sz="3600" spc="-1" strike="noStrike">
                <a:solidFill>
                  <a:srgbClr val="fee29d"/>
                </a:solidFill>
                <a:latin typeface="Gill Sans"/>
              </a:rPr>
              <a:t>functions you did not lear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319760" indent="-45252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dvise the employer of </a:t>
            </a:r>
            <a:r>
              <a:rPr b="1" lang="en-US" sz="3600" spc="-1" strike="noStrike">
                <a:solidFill>
                  <a:srgbClr val="fee29d"/>
                </a:solidFill>
                <a:latin typeface="Gill Sans"/>
              </a:rPr>
              <a:t>functions you cannot do for moral or religious reason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319760" indent="-45252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ill Sans"/>
              </a:rPr>
              <a:t>Clearly understand what is expected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269720" y="1269720"/>
            <a:ext cx="10464840" cy="817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lvl="1" marL="895320" indent="-501480"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 not take a job that requires you to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53160" indent="-429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ct beyond the legal limits of your ro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53160" indent="-429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unction beyond your training limi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53160" indent="-429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erform acts that are against your morals or relig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953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95320" indent="-501480"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 need to know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53160" indent="-429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 you can safely d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53160" indent="-429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things you should never d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53160" indent="-429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r job descrip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53160" indent="-429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ethical and legal aspects of your ro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77480" y="126720"/>
            <a:ext cx="5359320" cy="8940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44680" indent="0">
              <a:lnSpc>
                <a:spcPct val="128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ed46c"/>
                </a:solidFill>
                <a:uFillTx/>
                <a:latin typeface="Gill Sans"/>
              </a:rPr>
              <a:t>CARE  TEAM  PROVIDERS 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lnSpc>
                <a:spcPct val="128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"/>
              </a:rPr>
              <a:t>____ Medical Social Worker (MSW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lnSpc>
                <a:spcPct val="128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"/>
              </a:rPr>
              <a:t>____ Occupational Therapist (OT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lnSpc>
                <a:spcPct val="128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"/>
              </a:rPr>
              <a:t>_____ Physical Therapist (PT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lnSpc>
                <a:spcPct val="128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"/>
              </a:rPr>
              <a:t>_____ Physician or Doctor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lnSpc>
                <a:spcPct val="128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"/>
              </a:rPr>
              <a:t>_____ Registered Dietitian (RD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lnSpc>
                <a:spcPct val="128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"/>
              </a:rPr>
              <a:t>_____ Speech-Language Pathologist (SLP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lnSpc>
                <a:spcPct val="128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"/>
              </a:rPr>
              <a:t>_____ Activities Director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5983200" y="272880"/>
            <a:ext cx="6946920" cy="74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HOW THEY WORK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A.  Diagnoses disease or disability &amp; prescribes treatment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B.  Administers therapy in the form of heat, cold, massage, ultrasound, electricity, &amp; exercise to muscles, bones, &amp; joints.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C.  Teaches exercises to help the resident improve or overcome speech problems.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D.  Trains residents to compensate for disabililities during ADLs &amp; other activities.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E.  Creates diets for residents with special needs.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F.  Helps residents get support services, such as counseling.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G.  Helps residents socialize &amp; stay active.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800280" indent="-711360">
              <a:spcBef>
                <a:spcPts val="4799"/>
              </a:spcBef>
              <a:buClr>
                <a:srgbClr val="51d9fe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51d9fe"/>
                </a:solidFill>
                <a:uFillTx/>
                <a:latin typeface="Gill Sans"/>
              </a:rPr>
              <a:t>Delegat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US" sz="4200" spc="-1" strike="noStrike">
                <a:solidFill>
                  <a:srgbClr val="fed46c"/>
                </a:solidFill>
                <a:latin typeface="Gill Sans"/>
              </a:rPr>
              <a:t>means to authorize another person to perform a nursing task in a certain situation</a:t>
            </a:r>
            <a:r>
              <a:rPr b="0" lang="en-US" sz="4200" spc="-1" strike="noStrike">
                <a:solidFill>
                  <a:srgbClr val="fed46c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28680" indent="0">
              <a:spcBef>
                <a:spcPts val="4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28680" indent="-609480"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person must be competent to perform a task in a given situa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914400" y="393840"/>
            <a:ext cx="12065040" cy="960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lvl="1" marL="1076400" indent="-457200"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Ns can </a:t>
            </a:r>
            <a:r>
              <a:rPr b="1" lang="en-US" sz="4200" spc="-1" strike="noStrike">
                <a:solidFill>
                  <a:srgbClr val="51d9fe"/>
                </a:solidFill>
                <a:latin typeface="Gill Sans"/>
              </a:rPr>
              <a:t>delegat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nursing tasks to LPNs/LVNs and nursing assistan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47920" indent="-38124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In some states, LPNs/LVNs can delegate tasks to nursing assistants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447920" indent="-381240">
              <a:spcBef>
                <a:spcPts val="601"/>
              </a:spcBef>
              <a:buClr>
                <a:srgbClr val="51d9fe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d9fe"/>
                </a:solidFill>
                <a:latin typeface="Gill Sans"/>
              </a:rPr>
              <a:t>Delegation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 decisions must protect the perso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 health and safety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447920" indent="-381240"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1" lang="en-US" sz="3600" spc="-1" strike="noStrike">
                <a:solidFill>
                  <a:srgbClr val="51d9fe"/>
                </a:solidFill>
                <a:latin typeface="Gill Sans"/>
              </a:rPr>
              <a:t>delegating 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nurse is </a:t>
            </a:r>
            <a:r>
              <a:rPr b="0" i="1" lang="en-US" sz="3600" spc="-1" strike="noStrike" u="sng">
                <a:solidFill>
                  <a:srgbClr val="c0edfe"/>
                </a:solidFill>
                <a:uFillTx/>
                <a:latin typeface="Gill Sans"/>
              </a:rPr>
              <a:t>legally accountable 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r the nursing task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spcBef>
                <a:spcPts val="601"/>
              </a:spcBef>
              <a:buClr>
                <a:srgbClr val="fed46c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ed46c"/>
                </a:solidFill>
                <a:latin typeface="Gill Sans"/>
              </a:rPr>
              <a:t>The RN is accountable for all nursing car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Nursing assistants </a:t>
            </a:r>
            <a:r>
              <a:rPr b="1" i="1" lang="en-US" sz="4200" spc="-1" strike="noStrike" u="sng">
                <a:solidFill>
                  <a:srgbClr val="ff0000"/>
                </a:solidFill>
                <a:uFillTx/>
                <a:latin typeface="Gill Sans"/>
              </a:rPr>
              <a:t>cannot</a:t>
            </a:r>
            <a:r>
              <a:rPr b="1" i="1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 </a:t>
            </a:r>
            <a:r>
              <a:rPr b="1" i="1" lang="en-US" sz="4200" spc="-1" strike="noStrike" u="sng">
                <a:solidFill>
                  <a:srgbClr val="51d9fe"/>
                </a:solidFill>
                <a:uFillTx/>
                <a:latin typeface="Gill Sans"/>
              </a:rPr>
              <a:t>delegat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1"/>
          <p:cNvGrpSpPr/>
          <p:nvPr/>
        </p:nvGrpSpPr>
        <p:grpSpPr>
          <a:xfrm>
            <a:off x="668160" y="6480"/>
            <a:ext cx="10469520" cy="9550440"/>
            <a:chOff x="668160" y="6480"/>
            <a:chExt cx="10469520" cy="9550440"/>
          </a:xfrm>
        </p:grpSpPr>
        <p:sp>
          <p:nvSpPr>
            <p:cNvPr id="568" name="Oval 2"/>
            <p:cNvSpPr/>
            <p:nvPr/>
          </p:nvSpPr>
          <p:spPr>
            <a:xfrm>
              <a:off x="4313160" y="6480"/>
              <a:ext cx="3262320" cy="3056040"/>
            </a:xfrm>
            <a:prstGeom prst="ellipse">
              <a:avLst/>
            </a:prstGeom>
            <a:solidFill>
              <a:srgbClr val="7fd13b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rbel Bold"/>
                  <a:ea typeface="ＭＳ Ｐゴシック"/>
                </a:rPr>
                <a:t>Assessment: getting info</a:t>
              </a:r>
              <a:r>
                <a:rPr b="0" lang="en-US" sz="2300" spc="-1" strike="noStrike">
                  <a:solidFill>
                    <a:srgbClr val="ffffff"/>
                  </a:solidFill>
                  <a:latin typeface="Corbel"/>
                  <a:ea typeface="ＭＳ Ｐゴシック"/>
                </a:rPr>
                <a:t>	</a:t>
              </a:r>
              <a:endParaRPr b="0" lang="en-US" sz="23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9" name="AutoShape 3"/>
            <p:cNvSpPr/>
            <p:nvPr/>
          </p:nvSpPr>
          <p:spPr>
            <a:xfrm rot="2160000">
              <a:off x="7437240" y="2349720"/>
              <a:ext cx="668520" cy="882720"/>
            </a:xfrm>
            <a:custGeom>
              <a:avLst/>
              <a:gdLst/>
              <a:ahLst/>
              <a:rect l="l" t="t" r="r" b="b"/>
              <a:pathLst>
                <a:path w="21290" h="21600">
                  <a:moveTo>
                    <a:pt x="-133" y="3240"/>
                  </a:moveTo>
                  <a:lnTo>
                    <a:pt x="16277" y="2852"/>
                  </a:lnTo>
                  <a:lnTo>
                    <a:pt x="16410" y="-388"/>
                  </a:lnTo>
                  <a:lnTo>
                    <a:pt x="20847" y="10297"/>
                  </a:lnTo>
                  <a:lnTo>
                    <a:pt x="15524" y="21212"/>
                  </a:lnTo>
                  <a:lnTo>
                    <a:pt x="15657" y="17972"/>
                  </a:lnTo>
                  <a:lnTo>
                    <a:pt x="-753" y="18360"/>
                  </a:lnTo>
                  <a:lnTo>
                    <a:pt x="-133" y="3240"/>
                  </a:lnTo>
                  <a:close/>
                  <a:moveTo>
                    <a:pt x="-133" y="3240"/>
                  </a:moveTo>
                </a:path>
              </a:pathLst>
            </a:custGeom>
            <a:solidFill>
              <a:srgbClr val="d3e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0" name="Oval 4"/>
            <p:cNvSpPr/>
            <p:nvPr/>
          </p:nvSpPr>
          <p:spPr>
            <a:xfrm>
              <a:off x="7873920" y="2514600"/>
              <a:ext cx="3263760" cy="3056040"/>
            </a:xfrm>
            <a:prstGeom prst="ellipse">
              <a:avLst/>
            </a:prstGeom>
            <a:solidFill>
              <a:srgbClr val="7fd13b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rbel Bold"/>
                  <a:ea typeface="ＭＳ Ｐゴシック"/>
                </a:rPr>
                <a:t>Diagnosis: id problems &amp; needs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1" name="AutoShape 5"/>
            <p:cNvSpPr/>
            <p:nvPr/>
          </p:nvSpPr>
          <p:spPr>
            <a:xfrm rot="6480000">
              <a:off x="8468640" y="5678280"/>
              <a:ext cx="868320" cy="677880"/>
            </a:xfrm>
            <a:custGeom>
              <a:avLst/>
              <a:gdLst/>
              <a:ahLst/>
              <a:rect l="l" t="t" r="r" b="b"/>
              <a:pathLst>
                <a:path w="21490" h="21600">
                  <a:moveTo>
                    <a:pt x="47" y="3240"/>
                  </a:moveTo>
                  <a:lnTo>
                    <a:pt x="16426" y="3657"/>
                  </a:lnTo>
                  <a:lnTo>
                    <a:pt x="16379" y="417"/>
                  </a:lnTo>
                  <a:lnTo>
                    <a:pt x="21647" y="11347"/>
                  </a:lnTo>
                  <a:lnTo>
                    <a:pt x="16693" y="22017"/>
                  </a:lnTo>
                  <a:lnTo>
                    <a:pt x="16646" y="18777"/>
                  </a:lnTo>
                  <a:lnTo>
                    <a:pt x="267" y="18360"/>
                  </a:lnTo>
                  <a:lnTo>
                    <a:pt x="47" y="3240"/>
                  </a:lnTo>
                  <a:close/>
                  <a:moveTo>
                    <a:pt x="47" y="3240"/>
                  </a:moveTo>
                </a:path>
              </a:pathLst>
            </a:custGeom>
            <a:solidFill>
              <a:srgbClr val="d3e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2" name="Oval 6"/>
            <p:cNvSpPr/>
            <p:nvPr/>
          </p:nvSpPr>
          <p:spPr>
            <a:xfrm>
              <a:off x="6565680" y="6499440"/>
              <a:ext cx="3262320" cy="3057480"/>
            </a:xfrm>
            <a:prstGeom prst="ellipse">
              <a:avLst/>
            </a:prstGeom>
            <a:solidFill>
              <a:srgbClr val="7fd13b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rbel Bold"/>
                  <a:ea typeface="ＭＳ Ｐゴシック"/>
                </a:rPr>
                <a:t>Planning: id goal of care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3" name="AutoShape 7"/>
            <p:cNvSpPr/>
            <p:nvPr/>
          </p:nvSpPr>
          <p:spPr>
            <a:xfrm rot="10800000">
              <a:off x="5601600" y="7596000"/>
              <a:ext cx="684360" cy="863640"/>
            </a:xfrm>
            <a:prstGeom prst="rightArrow">
              <a:avLst>
                <a:gd name="adj1" fmla="val 70000"/>
                <a:gd name="adj2" fmla="val 22421"/>
              </a:avLst>
            </a:prstGeom>
            <a:solidFill>
              <a:srgbClr val="d3e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4" name="Oval 8"/>
            <p:cNvSpPr/>
            <p:nvPr/>
          </p:nvSpPr>
          <p:spPr>
            <a:xfrm>
              <a:off x="2060280" y="6499440"/>
              <a:ext cx="3262320" cy="3057480"/>
            </a:xfrm>
            <a:prstGeom prst="ellipse">
              <a:avLst/>
            </a:prstGeom>
            <a:solidFill>
              <a:srgbClr val="7fd13b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rbel Bold"/>
                  <a:ea typeface="ＭＳ Ｐゴシック"/>
                </a:rPr>
                <a:t>Implementa-tion: steps in care plan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5" name="AutoShape 9"/>
            <p:cNvSpPr/>
            <p:nvPr/>
          </p:nvSpPr>
          <p:spPr>
            <a:xfrm rot="15120000">
              <a:off x="2566800" y="5672160"/>
              <a:ext cx="869760" cy="679320"/>
            </a:xfrm>
            <a:custGeom>
              <a:avLst/>
              <a:gdLst/>
              <a:ahLst/>
              <a:rect l="l" t="t" r="r" b="b"/>
              <a:pathLst>
                <a:path w="21490" h="21600">
                  <a:moveTo>
                    <a:pt x="-47" y="3240"/>
                  </a:moveTo>
                  <a:lnTo>
                    <a:pt x="16332" y="2823"/>
                  </a:lnTo>
                  <a:lnTo>
                    <a:pt x="16379" y="-417"/>
                  </a:lnTo>
                  <a:lnTo>
                    <a:pt x="21333" y="10253"/>
                  </a:lnTo>
                  <a:lnTo>
                    <a:pt x="16065" y="21183"/>
                  </a:lnTo>
                  <a:lnTo>
                    <a:pt x="16112" y="17943"/>
                  </a:lnTo>
                  <a:lnTo>
                    <a:pt x="-267" y="18360"/>
                  </a:lnTo>
                  <a:lnTo>
                    <a:pt x="-47" y="3240"/>
                  </a:lnTo>
                  <a:close/>
                  <a:moveTo>
                    <a:pt x="-47" y="3240"/>
                  </a:moveTo>
                </a:path>
              </a:pathLst>
            </a:custGeom>
            <a:solidFill>
              <a:srgbClr val="d3e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6" name="Oval 10"/>
            <p:cNvSpPr/>
            <p:nvPr/>
          </p:nvSpPr>
          <p:spPr>
            <a:xfrm>
              <a:off x="668160" y="2486160"/>
              <a:ext cx="3262320" cy="3056040"/>
            </a:xfrm>
            <a:prstGeom prst="ellipse">
              <a:avLst/>
            </a:prstGeom>
            <a:solidFill>
              <a:srgbClr val="7fd13b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rbel Bold"/>
                  <a:ea typeface="ＭＳ Ｐゴシック"/>
                </a:rPr>
                <a:t>Evaluation: </a:t>
              </a:r>
              <a:r>
                <a:rPr b="1" lang="en-US" sz="2800" spc="-1" strike="noStrike">
                  <a:solidFill>
                    <a:srgbClr val="000000"/>
                  </a:solidFill>
                  <a:latin typeface="Corbel Bold"/>
                  <a:ea typeface="ＭＳ Ｐゴシック"/>
                </a:rPr>
                <a:t>observations,</a:t>
              </a:r>
              <a:r>
                <a:rPr b="1" lang="en-US" sz="3200" spc="-1" strike="noStrike">
                  <a:solidFill>
                    <a:srgbClr val="000000"/>
                  </a:solidFill>
                  <a:latin typeface="Corbel Bold"/>
                  <a:ea typeface="ＭＳ Ｐゴシック"/>
                </a:rPr>
                <a:t> unexpected outcomes, &amp; changes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7" name="AutoShape 11"/>
            <p:cNvSpPr/>
            <p:nvPr/>
          </p:nvSpPr>
          <p:spPr>
            <a:xfrm rot="19440000">
              <a:off x="3769920" y="2332080"/>
              <a:ext cx="668160" cy="884160"/>
            </a:xfrm>
            <a:custGeom>
              <a:avLst/>
              <a:gdLst/>
              <a:ahLst/>
              <a:rect l="l" t="t" r="r" b="b"/>
              <a:pathLst>
                <a:path w="21290" h="21600">
                  <a:moveTo>
                    <a:pt x="133" y="3240"/>
                  </a:moveTo>
                  <a:lnTo>
                    <a:pt x="16543" y="3628"/>
                  </a:lnTo>
                  <a:lnTo>
                    <a:pt x="16410" y="388"/>
                  </a:lnTo>
                  <a:lnTo>
                    <a:pt x="21733" y="11303"/>
                  </a:lnTo>
                  <a:lnTo>
                    <a:pt x="17296" y="21988"/>
                  </a:lnTo>
                  <a:lnTo>
                    <a:pt x="17163" y="18748"/>
                  </a:lnTo>
                  <a:lnTo>
                    <a:pt x="753" y="18360"/>
                  </a:lnTo>
                  <a:lnTo>
                    <a:pt x="133" y="3240"/>
                  </a:lnTo>
                  <a:close/>
                  <a:moveTo>
                    <a:pt x="133" y="3240"/>
                  </a:moveTo>
                </a:path>
              </a:pathLst>
            </a:custGeom>
            <a:solidFill>
              <a:srgbClr val="d3e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78" name="Rectangle 12"/>
          <p:cNvSpPr/>
          <p:nvPr/>
        </p:nvSpPr>
        <p:spPr>
          <a:xfrm>
            <a:off x="3689280" y="4230000"/>
            <a:ext cx="45468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Nursing ca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planning proces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1"/>
          <p:cNvGrpSpPr/>
          <p:nvPr/>
        </p:nvGrpSpPr>
        <p:grpSpPr>
          <a:xfrm>
            <a:off x="406440" y="380880"/>
            <a:ext cx="11861640" cy="7440480"/>
            <a:chOff x="406440" y="380880"/>
            <a:chExt cx="11861640" cy="7440480"/>
          </a:xfrm>
        </p:grpSpPr>
        <p:sp>
          <p:nvSpPr>
            <p:cNvPr id="580" name="Rectangle 2"/>
            <p:cNvSpPr/>
            <p:nvPr/>
          </p:nvSpPr>
          <p:spPr>
            <a:xfrm>
              <a:off x="455760" y="380880"/>
              <a:ext cx="11812320" cy="3124080"/>
            </a:xfrm>
            <a:prstGeom prst="rect">
              <a:avLst/>
            </a:prstGeom>
            <a:solidFill>
              <a:srgbClr val="7fd13b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1445"/>
                  </a:solidFill>
                  <a:latin typeface="Corbel Bold"/>
                  <a:ea typeface="ＭＳ Ｐゴシック"/>
                </a:rPr>
                <a:t>Care plan</a:t>
              </a:r>
              <a:r>
                <a:rPr b="1" lang="en-US" sz="7200" spc="-1" strike="noStrike">
                  <a:solidFill>
                    <a:srgbClr val="001445"/>
                  </a:solidFill>
                  <a:latin typeface="Corbel Bold"/>
                  <a:ea typeface="ＭＳ Ｐゴシック"/>
                </a:rPr>
                <a:t> - </a:t>
              </a:r>
              <a:r>
                <a:rPr b="1" lang="en-US" sz="6400" spc="-1" strike="noStrike">
                  <a:solidFill>
                    <a:srgbClr val="001445"/>
                  </a:solidFill>
                  <a:latin typeface="Corbel Bold"/>
                  <a:ea typeface="ＭＳ Ｐゴシック"/>
                </a:rPr>
                <a:t>should identify all </a:t>
              </a:r>
              <a:r>
                <a:rPr b="1" lang="en-US" sz="7200" spc="-1" strike="noStrike">
                  <a:solidFill>
                    <a:srgbClr val="001445"/>
                  </a:solidFill>
                  <a:latin typeface="Corbel Bold"/>
                  <a:ea typeface="ＭＳ Ｐゴシック"/>
                </a:rPr>
                <a:t>of the following:</a:t>
              </a:r>
              <a:endParaRPr b="0" lang="en-US" sz="7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81" name="Rectangle 3"/>
            <p:cNvSpPr/>
            <p:nvPr/>
          </p:nvSpPr>
          <p:spPr>
            <a:xfrm>
              <a:off x="406440" y="3504960"/>
              <a:ext cx="3913200" cy="4246560"/>
            </a:xfrm>
            <a:prstGeom prst="rect">
              <a:avLst/>
            </a:prstGeom>
            <a:solidFill>
              <a:srgbClr val="7fd13b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rbel"/>
                  <a:ea typeface="ＭＳ Ｐゴシック"/>
                </a:rPr>
                <a:t>Resident</a:t>
              </a:r>
              <a:r>
                <a:rPr b="1" lang="ja-JP" sz="4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’</a:t>
              </a:r>
              <a:r>
                <a:rPr b="1" lang="en-US" sz="40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s health &amp; physical condition</a:t>
              </a:r>
              <a:endParaRPr b="0" lang="en-US" sz="4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82" name="Rectangle 4"/>
            <p:cNvSpPr/>
            <p:nvPr/>
          </p:nvSpPr>
          <p:spPr>
            <a:xfrm>
              <a:off x="4368960" y="3428640"/>
              <a:ext cx="3913200" cy="4246560"/>
            </a:xfrm>
            <a:prstGeom prst="rect">
              <a:avLst/>
            </a:prstGeom>
            <a:solidFill>
              <a:srgbClr val="7fd13b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rbel"/>
                  <a:ea typeface="ＭＳ Ｐゴシック"/>
                </a:rPr>
                <a:t>Resident</a:t>
              </a:r>
              <a:r>
                <a:rPr b="1" lang="ja-JP" sz="4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’</a:t>
              </a:r>
              <a:r>
                <a:rPr b="1" lang="en-US" sz="40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s diagnosis &amp; treatment</a:t>
              </a:r>
              <a:endParaRPr b="0" lang="en-US" sz="4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8331120" y="3504960"/>
              <a:ext cx="3915000" cy="4246560"/>
            </a:xfrm>
            <a:prstGeom prst="rect">
              <a:avLst/>
            </a:prstGeom>
            <a:solidFill>
              <a:srgbClr val="7fd13b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rbel"/>
                  <a:ea typeface="ＭＳ Ｐゴシック"/>
                </a:rPr>
                <a:t>Resident</a:t>
              </a:r>
              <a:r>
                <a:rPr b="1" lang="ja-JP" sz="4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’</a:t>
              </a:r>
              <a:r>
                <a:rPr b="1" lang="en-US" sz="40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s goals &amp; expectations</a:t>
              </a:r>
              <a:endParaRPr b="0" lang="en-US" sz="4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406440" y="7289640"/>
              <a:ext cx="11810880" cy="531720"/>
            </a:xfrm>
            <a:prstGeom prst="rect">
              <a:avLst/>
            </a:prstGeom>
            <a:solidFill>
              <a:srgbClr val="7fd13b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482400" y="1231560"/>
            <a:ext cx="12395160" cy="774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22440" indent="-533520"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Describes the line of authority &amp; helps ensure that residents receive proper care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22440" indent="-533520"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lso protects employees &amp; employer from </a:t>
            </a:r>
            <a:r>
              <a:rPr b="0" lang="en-US" sz="3600" spc="-1" strike="noStrike">
                <a:solidFill>
                  <a:srgbClr val="fed46c"/>
                </a:solidFill>
                <a:latin typeface="Gill Sans"/>
              </a:rPr>
              <a:t>liability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ill Sans"/>
              </a:rPr>
              <a:t>(being held responsible for harming someone else)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952560" indent="0">
              <a:spcBef>
                <a:spcPts val="4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952560" indent="-533520"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If a resident is harmed by a CNA who is doing what was </a:t>
            </a:r>
            <a:r>
              <a:rPr b="0" lang="en-US" sz="3600" spc="-1" strike="noStrike">
                <a:solidFill>
                  <a:srgbClr val="60b5fe"/>
                </a:solidFill>
                <a:latin typeface="Gill Sans"/>
              </a:rPr>
              <a:t>in the care plan &amp; according to policy &amp; procedure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, the CNA may not be held responsible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952560" indent="-533520"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If a resident is harmed by a CNA who is </a:t>
            </a:r>
            <a:r>
              <a:rPr b="0" lang="en-US" sz="3600" spc="-1" strike="noStrike">
                <a:solidFill>
                  <a:srgbClr val="60b5fe"/>
                </a:solidFill>
                <a:latin typeface="Gill Sans"/>
              </a:rPr>
              <a:t>not following the care plan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, he could be held responsible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0" y="266760"/>
            <a:ext cx="69724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7ccfc"/>
                </a:solidFill>
                <a:latin typeface="Gill Sans"/>
                <a:ea typeface="ＭＳ Ｐゴシック"/>
              </a:rPr>
              <a:t>Chain of command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279360" y="114120"/>
            <a:ext cx="12725280" cy="9639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44680" indent="-51444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ich of the following statements is true of the chain of command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73000" indent="-51408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t  describes  the  line  of  authority in a facilit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73000" indent="-514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t  is  the  same  as  the  care  tea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73000" indent="-514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t details the survey process for a facilit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73000" indent="-514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ursing assistants are at the top of the chai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lnSpc>
                <a:spcPct val="90000"/>
              </a:lnSpc>
              <a:spcBef>
                <a:spcPts val="4799"/>
              </a:spcBef>
              <a:buClr>
                <a:srgbClr val="a3a3e0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3a3e0"/>
                </a:solidFill>
                <a:latin typeface="Gill Sans"/>
              </a:rPr>
              <a:t>Liabilit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a legal term that mea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73000" indent="-51408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line of authority in a facilit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73000" indent="-514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gnoring  a  resident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  call ligh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73000" indent="-514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meone who can be held responsible for harming someone els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73000" indent="-514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task that a person was not trained for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914040" y="1523520"/>
            <a:ext cx="12014280" cy="7581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44680" indent="-514440"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y is it important not to do tasks that are not assigned to you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73000" indent="-514080"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 may be assigned more work  if you perform  additional task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73000" indent="-514080">
              <a:spcBef>
                <a:spcPts val="601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 may put yourself or someone else in danger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73000" indent="-514080">
              <a:spcBef>
                <a:spcPts val="601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 may need to pay for additional trainin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73000" indent="-514080">
              <a:spcBef>
                <a:spcPts val="601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 may have to start arriving at work earlier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533520" indent="-504000"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 is one reason that other members of the care team will show great interest in the work that you do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55360" indent="-503640"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y may not trust you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55360" indent="-503640">
              <a:spcBef>
                <a:spcPts val="601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  will  be  working  under  the  authority  of  other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  license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55360" indent="-503640">
              <a:spcBef>
                <a:spcPts val="601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y  may  not  have  much respect  for  nursing assistan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855360" indent="-503640">
              <a:spcBef>
                <a:spcPts val="601"/>
              </a:spcBef>
              <a:buClr>
                <a:srgbClr val="ffffff"/>
              </a:buClr>
              <a:buSzPct val="99000"/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avoid having to pay you if you make a mistak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533520" y="1257120"/>
            <a:ext cx="12229920" cy="8559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44680" indent="-514440"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___ The purpose of the care plan is to give suggestions for care, which the CNA can customize for each residen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___ Activities that are not listed on the care plan should not be perform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___ Care planning does not involve the resident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 input or feeling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___ Sometimes even simple observations that CNAs make about residents are very importan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495360" y="279360"/>
            <a:ext cx="6070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TRUE or FAL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317520" y="952560"/>
            <a:ext cx="4470480" cy="7848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marL="506520" indent="-478080">
              <a:lnSpc>
                <a:spcPct val="150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___Assessmen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06520" indent="-478080">
              <a:lnSpc>
                <a:spcPct val="150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___Diagnosi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06520" indent="-478080">
              <a:lnSpc>
                <a:spcPct val="150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___Planning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06520" indent="-478080">
              <a:lnSpc>
                <a:spcPct val="150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___Implement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06520" indent="-478080">
              <a:lnSpc>
                <a:spcPct val="150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____Evalu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06520" indent="-478080">
              <a:lnSpc>
                <a:spcPct val="150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___Goal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5321160" y="152280"/>
            <a:ext cx="6642360" cy="9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cbd00"/>
                </a:solidFill>
                <a:uFillTx/>
                <a:latin typeface="Gill Sans"/>
                <a:ea typeface="ＭＳ Ｐゴシック"/>
              </a:rPr>
              <a:t>Description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A.  Deciding if goals were me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B.  Getting information about the resident &amp; reviewing this inform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C. Identifying health problems &amp; resident need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D. Putting the plan into ac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E.  Resident</a:t>
            </a:r>
            <a:r>
              <a:rPr b="0" lang="ja-JP" sz="3600" spc="-1" strike="noStrike">
                <a:solidFill>
                  <a:srgbClr val="fcbd00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cbd00"/>
                </a:solidFill>
                <a:latin typeface="Gill Sans"/>
                <a:ea typeface="Gill Sans"/>
              </a:rPr>
              <a:t>s needs are me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d00"/>
                </a:solidFill>
                <a:latin typeface="Gill Sans"/>
                <a:ea typeface="Gill Sans"/>
              </a:rPr>
              <a:t>F.  Setting goals &amp; creating a care pla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394560" y="-65160"/>
            <a:ext cx="369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cbd00"/>
                </a:solidFill>
                <a:uFillTx/>
                <a:latin typeface="Gill Sans"/>
                <a:ea typeface="ＭＳ Ｐゴシック"/>
              </a:rPr>
              <a:t>Nursing proces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75920" y="1486080"/>
            <a:ext cx="3505320" cy="6781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44680" indent="-51444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___  Registered Nurse (RN)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___ Licensed Practical Nurse (LPN/LVN)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___ Nursing Assistant (NA or CNA)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marL="544680" indent="-51444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9000"/>
              <a:buFont typeface="Gill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___ Resident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584280" y="552600"/>
            <a:ext cx="30099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bd00"/>
                </a:solidFill>
                <a:uFillTx/>
                <a:latin typeface="Gill Sans"/>
                <a:ea typeface="ＭＳ Ｐゴシック"/>
              </a:rPr>
              <a:t>Nursing Care Team Provid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483080" y="958680"/>
            <a:ext cx="8217000" cy="61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bd00"/>
                </a:solidFill>
                <a:uFillTx/>
                <a:latin typeface="Gill Sans"/>
                <a:ea typeface="ＭＳ Ｐゴシック"/>
              </a:rPr>
              <a:t>How they work together to provide nursing ca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A.  The care team revolves around this person &amp; his or her condition, treatment, &amp; progress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B.  Performs delegated tasks, such as taking vital signs, providing personal care, &amp; reporting observations to other team members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C.  Licensed professional who has completed 1 -2 years of education &amp; is able to administer medications &amp; give treatments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bd00"/>
                </a:solidFill>
                <a:latin typeface="Gill Sans"/>
                <a:ea typeface="ＭＳ Ｐゴシック"/>
              </a:rPr>
              <a:t>D.  Licensed professional who has completed 2 - 4 years of education who coordinates, manages, &amp; provides skilled nursing care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152280" y="50760"/>
            <a:ext cx="12776400" cy="8153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lvl="1" marL="857160" indent="-479880"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NCSBN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ive Rights of Delega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another way to view the delegation proces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199880" indent="-411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right task - </a:t>
            </a:r>
            <a:r>
              <a:rPr b="0" i="1" lang="en-US" sz="4200" spc="-1" strike="noStrike">
                <a:solidFill>
                  <a:srgbClr val="fed46c"/>
                </a:solidFill>
                <a:latin typeface="Gill Sans"/>
              </a:rPr>
              <a:t>Is there a match between the resident</a:t>
            </a:r>
            <a:r>
              <a:rPr b="0" i="1" lang="ja-JP" sz="4200" spc="-1" strike="noStrike">
                <a:solidFill>
                  <a:srgbClr val="fed46c"/>
                </a:solidFill>
                <a:latin typeface="Arial"/>
              </a:rPr>
              <a:t>’</a:t>
            </a:r>
            <a:r>
              <a:rPr b="0" i="1" lang="en-US" sz="4200" spc="-1" strike="noStrike">
                <a:solidFill>
                  <a:srgbClr val="fed46c"/>
                </a:solidFill>
                <a:latin typeface="Gill Sans"/>
              </a:rPr>
              <a:t>s needs &amp; the CNA</a:t>
            </a:r>
            <a:r>
              <a:rPr b="0" i="1" lang="ja-JP" sz="4200" spc="-1" strike="noStrike">
                <a:solidFill>
                  <a:srgbClr val="fed46c"/>
                </a:solidFill>
                <a:latin typeface="Arial"/>
              </a:rPr>
              <a:t>’</a:t>
            </a:r>
            <a:r>
              <a:rPr b="0" i="1" lang="en-US" sz="4200" spc="-1" strike="noStrike">
                <a:solidFill>
                  <a:srgbClr val="fed46c"/>
                </a:solidFill>
                <a:latin typeface="Gill Sans"/>
              </a:rPr>
              <a:t>s skills, abilities, &amp; experienc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199880" indent="-411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right circumstances –</a:t>
            </a:r>
            <a:r>
              <a:rPr b="0" i="1" lang="en-US" sz="4200" spc="-1" strike="noStrike">
                <a:solidFill>
                  <a:srgbClr val="fed46c"/>
                </a:solidFill>
                <a:latin typeface="Gill Sans"/>
              </a:rPr>
              <a:t>Is the resident stabl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199880" indent="-411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right person – </a:t>
            </a:r>
            <a:r>
              <a:rPr b="0" i="1" lang="en-US" sz="4200" spc="-1" strike="noStrike">
                <a:solidFill>
                  <a:srgbClr val="fed46c"/>
                </a:solidFill>
                <a:latin typeface="Gill Sans"/>
              </a:rPr>
              <a:t>Is the CNA the right person for the job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199880" indent="-411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right directions and communication – </a:t>
            </a:r>
            <a:r>
              <a:rPr b="0" i="1" lang="en-US" sz="4200" spc="-1" strike="noStrike">
                <a:solidFill>
                  <a:srgbClr val="fed46c"/>
                </a:solidFill>
                <a:latin typeface="Gill Sans"/>
              </a:rPr>
              <a:t>Can the nurse give appropriate direction &amp; communication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199880" indent="-411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right supervision – </a:t>
            </a:r>
            <a:r>
              <a:rPr b="0" i="1" lang="en-US" sz="4200" spc="-1" strike="noStrike">
                <a:solidFill>
                  <a:srgbClr val="fed46c"/>
                </a:solidFill>
                <a:latin typeface="Gill Sans"/>
              </a:rPr>
              <a:t>Is the nurse available for to give supervision, support, &amp; help that the CNA need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799920" y="1270080"/>
            <a:ext cx="11505960" cy="721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22440" indent="-533520">
              <a:lnSpc>
                <a:spcPct val="80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Your role in </a:t>
            </a:r>
            <a:r>
              <a:rPr b="1" lang="en-US" sz="3600" spc="-1" strike="noStrike">
                <a:solidFill>
                  <a:srgbClr val="47ccfc"/>
                </a:solidFill>
                <a:latin typeface="Gill Sans"/>
              </a:rPr>
              <a:t>deleg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80000"/>
              </a:lnSpc>
              <a:spcBef>
                <a:spcPts val="4799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You must protect the person from harm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You either agree or refuse to do a delegated task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622440" indent="-533520">
              <a:lnSpc>
                <a:spcPct val="80000"/>
              </a:lnSpc>
              <a:spcBef>
                <a:spcPts val="4799"/>
              </a:spcBef>
              <a:buClr>
                <a:srgbClr val="47ccfc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7ccfc"/>
                </a:solidFill>
                <a:latin typeface="Gill Sans"/>
              </a:rPr>
              <a:t>Accepting a task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80000"/>
              </a:lnSpc>
              <a:spcBef>
                <a:spcPts val="4799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When you agree to perform a task, you are responsible for your own actions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You must complete the task safely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Report to the nurse what you did and the observations you made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622440" indent="-533520">
              <a:lnSpc>
                <a:spcPct val="80000"/>
              </a:lnSpc>
              <a:spcBef>
                <a:spcPts val="4799"/>
              </a:spcBef>
              <a:buClr>
                <a:srgbClr val="47ccfc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7ccfc"/>
                </a:solidFill>
                <a:latin typeface="Gill Sans"/>
              </a:rPr>
              <a:t>Asking questions and asking for help 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hen you need it will help you to provide better care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698400" y="538200"/>
            <a:ext cx="11887200" cy="902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22440" indent="-533520">
              <a:lnSpc>
                <a:spcPct val="80000"/>
              </a:lnSpc>
              <a:spcBef>
                <a:spcPts val="4799"/>
              </a:spcBef>
              <a:buClr>
                <a:srgbClr val="fed46c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ed46c"/>
                </a:solidFill>
                <a:latin typeface="Gill Sans"/>
              </a:rPr>
              <a:t>Refuse to perform a task </a:t>
            </a:r>
            <a:r>
              <a:rPr b="0" lang="en-US" sz="2700" spc="-1" strike="noStrike">
                <a:solidFill>
                  <a:srgbClr val="ffffff"/>
                </a:solidFill>
                <a:latin typeface="Gill Sans"/>
              </a:rPr>
              <a:t>when: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80000"/>
              </a:lnSpc>
              <a:spcBef>
                <a:spcPts val="4799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 task is beyond the legal limits of your role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 task is not in your job description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You were not prepared to perform the task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 task could harm the person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 perso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 condition has changed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You do not know how to use the supplies or equipment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Directions are not ethical or legal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Directions are against agency policies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Directions are unclear or incomplete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76400" indent="-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 nurse is not available for supervision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1269720" y="2057400"/>
            <a:ext cx="10464840" cy="798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851040" indent="-571680"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ever  </a:t>
            </a:r>
            <a:r>
              <a:rPr b="0" lang="en-US" sz="4200" spc="-1" strike="noStrike">
                <a:solidFill>
                  <a:srgbClr val="fee29d"/>
                </a:solidFill>
                <a:latin typeface="Gill Sans"/>
              </a:rPr>
              <a:t>tak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ral or telephone </a:t>
            </a:r>
            <a:r>
              <a:rPr b="1" i="1" lang="en-US" sz="4200" spc="-1" strike="noStrike" u="sng">
                <a:solidFill>
                  <a:srgbClr val="fee29d"/>
                </a:solidFill>
                <a:uFillTx/>
                <a:latin typeface="Gill Sans"/>
              </a:rPr>
              <a:t>orders </a:t>
            </a:r>
            <a:r>
              <a:rPr b="1" i="1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 </a:t>
            </a:r>
            <a:r>
              <a:rPr b="1" i="1" lang="en-US" sz="4200" spc="-1" strike="noStrike" u="sng">
                <a:solidFill>
                  <a:srgbClr val="fed164"/>
                </a:solidFill>
                <a:uFillTx/>
                <a:latin typeface="Gill Sans"/>
              </a:rPr>
              <a:t>from doctors</a:t>
            </a:r>
            <a:r>
              <a:rPr b="0" lang="en-US" sz="4200" spc="-1" strike="noStrike">
                <a:solidFill>
                  <a:srgbClr val="fed164"/>
                </a:solidFill>
                <a:latin typeface="Gill Sans"/>
              </a:rPr>
              <a:t>.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Find a nurse promptly.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1040" indent="-571680"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ever </a:t>
            </a:r>
            <a:r>
              <a:rPr b="0" lang="en-US" sz="4200" spc="-1" strike="noStrike">
                <a:solidFill>
                  <a:srgbClr val="fee29d"/>
                </a:solidFill>
                <a:latin typeface="Gill Sans"/>
              </a:rPr>
              <a:t>perform </a:t>
            </a:r>
            <a:r>
              <a:rPr b="1" i="1" lang="en-US" sz="4200" spc="-1" strike="noStrike" u="sng">
                <a:solidFill>
                  <a:srgbClr val="fee29d"/>
                </a:solidFill>
                <a:uFillTx/>
                <a:latin typeface="Gill Sans"/>
              </a:rPr>
              <a:t>sterile procedur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  (You can assist by opening packages, but can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 perform sterile procedure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1040" indent="-571680"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ever  </a:t>
            </a:r>
            <a:r>
              <a:rPr b="0" lang="en-US" sz="4200" spc="-1" strike="noStrike">
                <a:solidFill>
                  <a:srgbClr val="fee29d"/>
                </a:solidFill>
                <a:latin typeface="Gill Sans"/>
              </a:rPr>
              <a:t>tel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 person or family </a:t>
            </a:r>
            <a:r>
              <a:rPr b="1" i="1" lang="en-US" sz="4200" spc="-1" strike="noStrike" u="sng">
                <a:solidFill>
                  <a:srgbClr val="fee29d"/>
                </a:solidFill>
                <a:uFillTx/>
                <a:latin typeface="Gill Sans"/>
              </a:rPr>
              <a:t>a diagnosis or treatment  plan</a:t>
            </a:r>
            <a:r>
              <a:rPr b="1" i="1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doctor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 responsibility, nurse can clarify what the doctor said)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0" y="165240"/>
            <a:ext cx="11569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ffff"/>
                </a:solidFill>
                <a:uFillTx/>
                <a:latin typeface="Gill Sans"/>
                <a:ea typeface="ＭＳ Ｐゴシック"/>
              </a:rPr>
              <a:t>Things a CNA should </a:t>
            </a:r>
            <a:r>
              <a:rPr b="1" lang="en-US" sz="4200" spc="-1" strike="noStrike" u="sng">
                <a:solidFill>
                  <a:srgbClr val="ce3b00"/>
                </a:solidFill>
                <a:uFillTx/>
                <a:latin typeface="Gill Sans"/>
                <a:ea typeface="ＭＳ Ｐゴシック"/>
              </a:rPr>
              <a:t>never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ill Sans"/>
                <a:ea typeface="ＭＳ Ｐゴシック"/>
              </a:rPr>
              <a:t> do.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*Memorize this list for the certification exa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799920" indent="-53712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Never</a:t>
            </a:r>
            <a:r>
              <a:rPr b="1" i="1" lang="en-US" sz="4200" spc="-1" strike="noStrike" u="sng">
                <a:solidFill>
                  <a:srgbClr val="fee29d"/>
                </a:solidFill>
                <a:uFillTx/>
                <a:latin typeface="Gill Sans"/>
              </a:rPr>
              <a:t> diagnose </a:t>
            </a:r>
            <a:r>
              <a:rPr b="1" i="1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or </a:t>
            </a:r>
            <a:r>
              <a:rPr b="1" i="1" lang="en-US" sz="4200" spc="-1" strike="noStrike" u="sng">
                <a:solidFill>
                  <a:srgbClr val="fee29d"/>
                </a:solidFill>
                <a:uFillTx/>
                <a:latin typeface="Gill Sans"/>
              </a:rPr>
              <a:t>prescribe</a:t>
            </a:r>
            <a:r>
              <a:rPr b="1" i="1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 treatments or drugs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r anyone (only doctors can diagnose &amp; prescrib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9920" indent="-53712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ever </a:t>
            </a:r>
            <a:r>
              <a:rPr b="1" i="1" lang="en-US" sz="4200" spc="-1" strike="noStrike" u="sng">
                <a:solidFill>
                  <a:srgbClr val="fee29d"/>
                </a:solidFill>
                <a:uFillTx/>
                <a:latin typeface="Gill Sans"/>
              </a:rPr>
              <a:t>supervise</a:t>
            </a:r>
            <a:r>
              <a:rPr b="1" i="1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 other nursing assistants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r assistive personnel (this is a nurse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 responsibility)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9920" indent="-53712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Never </a:t>
            </a:r>
            <a:r>
              <a:rPr b="1" i="1" lang="en-US" sz="4200" spc="-1" strike="noStrike" u="sng">
                <a:solidFill>
                  <a:srgbClr val="fee29d"/>
                </a:solidFill>
                <a:uFillTx/>
                <a:latin typeface="Gill Sans"/>
              </a:rPr>
              <a:t>ignore</a:t>
            </a:r>
            <a:r>
              <a:rPr b="1" i="1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 an order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r request to do something you can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 do (You must inform the nurse promptly why you can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 do it.  You cannot neglect the person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 car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14120" y="786960"/>
            <a:ext cx="12776040" cy="7518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842400" indent="-56592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ill Sans"/>
              </a:rPr>
              <a:t>Never, ever, ever  </a:t>
            </a:r>
            <a:r>
              <a:rPr b="1" i="1" lang="en-US" sz="4800" spc="-1" strike="noStrike" u="sng">
                <a:solidFill>
                  <a:srgbClr val="fee29d"/>
                </a:solidFill>
                <a:uFillTx/>
                <a:latin typeface="Gill Sans"/>
              </a:rPr>
              <a:t>GIVE MEDICATIONS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 not orally, not rectally, not rectally or vaginally or by injection.  Not by application to skin either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42400" indent="-56592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Never </a:t>
            </a:r>
            <a:r>
              <a:rPr b="1" i="1" lang="en-US" sz="4800" spc="-1" strike="noStrike" u="sng">
                <a:solidFill>
                  <a:srgbClr val="fee29d"/>
                </a:solidFill>
                <a:uFillTx/>
                <a:latin typeface="Gill Sans"/>
              </a:rPr>
              <a:t>insert or remove tubes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Gill Sans"/>
              </a:rPr>
              <a:t>or objects into body openings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1" marL="1282320" indent="-56556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No catheters into a perso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 bladd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282320" indent="-56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No feeding tube into a perso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 nose or esophagu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282320" indent="-56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No breathing tubes into a person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 trachea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282320" indent="-56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No blood draws or IV start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282320" indent="-56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No enemas or suppositories or rectal tubes unless specified in your job description &amp; legal in your stat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lvl="1" marL="923760" indent="-517320">
              <a:buClr>
                <a:srgbClr val="ff0000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Gill Sans"/>
              </a:rPr>
              <a:t>Never, ever ignore an order or a request to do something.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1293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93120" indent="-44316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ell the nurse about your concern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93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93120" indent="-44316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 must have sound reasons for refusing a task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93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93120" indent="-44316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ailing to provide needed care is a violation of law, know as</a:t>
            </a:r>
            <a:r>
              <a:rPr b="1" lang="en-US" sz="4200" spc="-1" strike="noStrike">
                <a:solidFill>
                  <a:srgbClr val="47ccfc"/>
                </a:solidFill>
                <a:latin typeface="Gill Sans"/>
              </a:rPr>
              <a:t> </a:t>
            </a:r>
            <a:r>
              <a:rPr b="1" lang="en-US" sz="4200" spc="-1" strike="noStrike" u="sng">
                <a:solidFill>
                  <a:srgbClr val="47ccfc"/>
                </a:solidFill>
                <a:uFillTx/>
                <a:latin typeface="Gill Sans"/>
              </a:rPr>
              <a:t>neglec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1352520" y="1326960"/>
            <a:ext cx="10298160" cy="7097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Gill Sans"/>
              </a:rPr>
              <a:t>But that</a:t>
            </a:r>
            <a:r>
              <a:rPr b="1" i="1" lang="ja-JP" sz="4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4200" spc="-1" strike="noStrike">
                <a:solidFill>
                  <a:srgbClr val="ffffff"/>
                </a:solidFill>
                <a:latin typeface="Gill Sans"/>
              </a:rPr>
              <a:t>s for our </a:t>
            </a:r>
            <a:r>
              <a:rPr b="1" i="1" lang="en-US" sz="4200" spc="-1" strike="noStrike">
                <a:solidFill>
                  <a:srgbClr val="c0edfe"/>
                </a:solidFill>
                <a:latin typeface="Gill Sans"/>
              </a:rPr>
              <a:t>next</a:t>
            </a:r>
            <a:r>
              <a:rPr b="1" i="1" lang="en-US" sz="4200" spc="-1" strike="noStrike">
                <a:solidFill>
                  <a:srgbClr val="ffffff"/>
                </a:solidFill>
                <a:latin typeface="Gill Sans"/>
              </a:rPr>
              <a:t> unit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80520" y="190440"/>
            <a:ext cx="11798280" cy="795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751320" indent="-751320">
              <a:lnSpc>
                <a:spcPct val="72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ISTORY  &amp;  CURRENT  TREND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689760">
              <a:lnSpc>
                <a:spcPct val="72000"/>
              </a:lnSpc>
              <a:spcBef>
                <a:spcPts val="4799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til the 1980s, training was not required by law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689760">
              <a:lnSpc>
                <a:spcPct val="72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efore the 1980s, team nursing was comm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689760">
              <a:lnSpc>
                <a:spcPct val="72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imary nursing was common in the 1980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689760">
              <a:lnSpc>
                <a:spcPct val="72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me care increased during the 1980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689760">
              <a:lnSpc>
                <a:spcPct val="72000"/>
              </a:lnSpc>
              <a:spcBef>
                <a:spcPts val="601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fforts to reduce health care costs includ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41440" indent="-591480">
              <a:lnSpc>
                <a:spcPct val="72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spital closing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41440" indent="-591480">
              <a:lnSpc>
                <a:spcPct val="72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spital merg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41440" indent="-591480">
              <a:lnSpc>
                <a:spcPct val="72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ealth care system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41440" indent="-591480">
              <a:lnSpc>
                <a:spcPct val="72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naged ca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41440" indent="-591480">
              <a:lnSpc>
                <a:spcPct val="72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ffing mix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41440" indent="-591480">
              <a:lnSpc>
                <a:spcPct val="72000"/>
              </a:lnSpc>
              <a:spcBef>
                <a:spcPts val="601"/>
              </a:spcBef>
              <a:buClr>
                <a:srgbClr val="84ddfd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4ddfd"/>
                </a:solidFill>
                <a:latin typeface="Gill Sans"/>
              </a:rPr>
              <a:t>Patient-focused ca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634680" y="1231920"/>
            <a:ext cx="10464840" cy="8572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751320" indent="-751320">
              <a:lnSpc>
                <a:spcPct val="90000"/>
              </a:lnSpc>
              <a:spcBef>
                <a:spcPts val="4799"/>
              </a:spcBef>
              <a:buClr>
                <a:srgbClr val="fcbd00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bd00"/>
                </a:solidFill>
                <a:latin typeface="Gill Sans"/>
              </a:rPr>
              <a:t>FEDERAL AND STATE LAW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689760">
              <a:lnSpc>
                <a:spcPct val="90000"/>
              </a:lnSpc>
              <a:spcBef>
                <a:spcPts val="4799"/>
              </a:spcBef>
              <a:buClr>
                <a:srgbClr val="ffffff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Each state has a</a:t>
            </a:r>
            <a:r>
              <a:rPr b="1" lang="en-US" sz="3600" spc="-1" strike="noStrike" u="sng">
                <a:solidFill>
                  <a:srgbClr val="00bafb"/>
                </a:solidFill>
                <a:uFillTx/>
                <a:latin typeface="Gill Sans"/>
              </a:rPr>
              <a:t> nurse practice ac</a:t>
            </a:r>
            <a:r>
              <a:rPr b="1" lang="en-US" sz="3600" spc="-1" strike="noStrike">
                <a:solidFill>
                  <a:srgbClr val="00bafb"/>
                </a:solidFill>
                <a:latin typeface="Gill Sans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 which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441440" indent="-591480">
              <a:lnSpc>
                <a:spcPct val="90000"/>
              </a:lnSpc>
              <a:spcBef>
                <a:spcPts val="601"/>
              </a:spcBef>
              <a:buClr>
                <a:srgbClr val="c0edfe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0edfe"/>
                </a:solidFill>
                <a:uFillTx/>
                <a:latin typeface="Gill Sans"/>
              </a:rPr>
              <a:t>Defines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 RN and LPN/LV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1785960" indent="-492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ome acts also define nursing assistant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44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441440" indent="-59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Describes the </a:t>
            </a:r>
            <a:r>
              <a:rPr b="0" lang="en-US" sz="3600" spc="-1" strike="noStrike" u="sng">
                <a:solidFill>
                  <a:srgbClr val="c0edfe"/>
                </a:solidFill>
                <a:uFillTx/>
                <a:latin typeface="Gill Sans"/>
              </a:rPr>
              <a:t>scope of practice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 for RNs and LPNs/LVNs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44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441440" indent="-59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Describes </a:t>
            </a:r>
            <a:r>
              <a:rPr b="0" lang="en-US" sz="3600" spc="-1" strike="noStrike" u="sng">
                <a:solidFill>
                  <a:srgbClr val="c0edfe"/>
                </a:solidFill>
                <a:uFillTx/>
                <a:latin typeface="Gill Sans"/>
              </a:rPr>
              <a:t>education and licensing requirements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 for RNs and LPNs/LVN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44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441440" indent="-591480">
              <a:lnSpc>
                <a:spcPct val="90000"/>
              </a:lnSpc>
              <a:spcBef>
                <a:spcPts val="601"/>
              </a:spcBef>
              <a:buClr>
                <a:srgbClr val="c0edfe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0edfe"/>
                </a:solidFill>
                <a:uFillTx/>
                <a:latin typeface="Gill Sans"/>
              </a:rPr>
              <a:t>Protects the public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1785960" indent="-49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rom persons practicing nursing without a licen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785960" indent="-49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ows for denying, revoking, and suspending a nursing licen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lvl="1" marL="828720" indent="-464040">
              <a:buClr>
                <a:srgbClr val="fcbd00"/>
              </a:buClr>
              <a:buSzPct val="89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cbd00"/>
                </a:solidFill>
                <a:uFillTx/>
                <a:latin typeface="Gill Sans"/>
              </a:rPr>
              <a:t>Role of nursing assista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159920" indent="-39744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me nurse practice acts also regulate nursing assistant roles, functions, education, and certification requiremen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1599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159920" indent="-39744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other states, there are separate laws for nursing assistan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1599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159920" indent="-39744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f you do something beyond the legal limits of your role, you could be practicing nursing without a licens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"/>
          <p:cNvGrpSpPr/>
          <p:nvPr/>
        </p:nvGrpSpPr>
        <p:grpSpPr>
          <a:xfrm>
            <a:off x="685800" y="228600"/>
            <a:ext cx="4432320" cy="4228920"/>
            <a:chOff x="685800" y="228600"/>
            <a:chExt cx="4432320" cy="4228920"/>
          </a:xfrm>
        </p:grpSpPr>
        <p:sp>
          <p:nvSpPr>
            <p:cNvPr id="539" name="Rectangle 2"/>
            <p:cNvSpPr/>
            <p:nvPr/>
          </p:nvSpPr>
          <p:spPr>
            <a:xfrm>
              <a:off x="685800" y="228600"/>
              <a:ext cx="4432320" cy="422892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540" name="Picture 3" descr=""/>
            <p:cNvPicPr/>
            <p:nvPr/>
          </p:nvPicPr>
          <p:blipFill>
            <a:blip r:embed="rId1"/>
            <a:stretch/>
          </p:blipFill>
          <p:spPr>
            <a:xfrm>
              <a:off x="685800" y="228600"/>
              <a:ext cx="4432320" cy="422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1" name="Group 4"/>
          <p:cNvGrpSpPr/>
          <p:nvPr/>
        </p:nvGrpSpPr>
        <p:grpSpPr>
          <a:xfrm>
            <a:off x="5397480" y="3805200"/>
            <a:ext cx="7086600" cy="4203360"/>
            <a:chOff x="5397480" y="3805200"/>
            <a:chExt cx="7086600" cy="4203360"/>
          </a:xfrm>
        </p:grpSpPr>
        <p:sp>
          <p:nvSpPr>
            <p:cNvPr id="542" name="AutoShape 5"/>
            <p:cNvSpPr/>
            <p:nvPr/>
          </p:nvSpPr>
          <p:spPr>
            <a:xfrm>
              <a:off x="5397480" y="3805200"/>
              <a:ext cx="7086600" cy="4203360"/>
            </a:xfrm>
            <a:custGeom>
              <a:avLst/>
              <a:gdLst/>
              <a:ahLst/>
              <a:rect l="l" t="t" r="r" b="b"/>
              <a:pathLst>
                <a:path w="21600" h="13513">
                  <a:moveTo>
                    <a:pt x="0" y="1641"/>
                  </a:moveTo>
                  <a:cubicBezTo>
                    <a:pt x="7154" y="-4043"/>
                    <a:pt x="14308" y="7325"/>
                    <a:pt x="21461" y="1641"/>
                  </a:cubicBezTo>
                  <a:lnTo>
                    <a:pt x="21600" y="11873"/>
                  </a:lnTo>
                  <a:cubicBezTo>
                    <a:pt x="14446" y="17557"/>
                    <a:pt x="7292" y="6189"/>
                    <a:pt x="139" y="11873"/>
                  </a:cubicBezTo>
                  <a:lnTo>
                    <a:pt x="0" y="1641"/>
                  </a:lnTo>
                  <a:close/>
                  <a:moveTo>
                    <a:pt x="0" y="1641"/>
                  </a:moveTo>
                </a:path>
              </a:pathLst>
            </a:custGeom>
            <a:solidFill>
              <a:srgbClr val="1ab39f"/>
            </a:solidFill>
            <a:ln w="25560">
              <a:solidFill>
                <a:srgbClr val="1282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3" name="Rectangle 6"/>
            <p:cNvSpPr/>
            <p:nvPr/>
          </p:nvSpPr>
          <p:spPr>
            <a:xfrm>
              <a:off x="5445000" y="5001120"/>
              <a:ext cx="6989760" cy="18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8f8f8"/>
                  </a:solidFill>
                  <a:latin typeface="Corbel Bold"/>
                  <a:ea typeface="ＭＳ Ｐゴシック"/>
                </a:rPr>
                <a:t>OBRA</a:t>
              </a:r>
              <a:endParaRPr b="0" lang="en-US" sz="9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44" name="Rectangle 7"/>
          <p:cNvSpPr/>
          <p:nvPr/>
        </p:nvSpPr>
        <p:spPr>
          <a:xfrm>
            <a:off x="6172200" y="711360"/>
            <a:ext cx="594360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"/>
                <a:ea typeface="ＭＳ Ｐゴシック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mnibu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"/>
                <a:ea typeface="ＭＳ Ｐゴシック"/>
              </a:rPr>
              <a:t>B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udge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"/>
                <a:ea typeface="ＭＳ Ｐゴシック"/>
              </a:rPr>
              <a:t>R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econcili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"/>
                <a:ea typeface="ＭＳ Ｐゴシック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ct of 1987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-495360" y="4851360"/>
            <a:ext cx="1297944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2" marL="1778040" indent="-57168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Remember: </a:t>
            </a:r>
            <a:r>
              <a:rPr b="1" lang="en-US" sz="4800" spc="-1" strike="noStrike">
                <a:solidFill>
                  <a:srgbClr val="ff2712"/>
                </a:solidFill>
                <a:latin typeface="Gill Sans"/>
              </a:rPr>
              <a:t>OBRA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, NOT OPRA, </a:t>
            </a:r>
            <a:r>
              <a:rPr b="1" lang="en-US" sz="4800" spc="-1" strike="noStrike">
                <a:solidFill>
                  <a:srgbClr val="ff2712"/>
                </a:solidFill>
                <a:latin typeface="Gill Sans"/>
              </a:rPr>
              <a:t>OBRA   Omnibus Budget Reconciliation Act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spcBef>
                <a:spcPts val="4799"/>
              </a:spcBef>
              <a:buClr>
                <a:srgbClr val="ff2712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712"/>
                </a:solidFill>
                <a:latin typeface="Gill Sans"/>
              </a:rPr>
              <a:t>Omnibus Budget Reconciliation Ac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7531200" y="0"/>
            <a:ext cx="4181400" cy="50036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3"/>
          <p:cNvSpPr/>
          <p:nvPr/>
        </p:nvSpPr>
        <p:spPr>
          <a:xfrm>
            <a:off x="6413400" y="996840"/>
            <a:ext cx="6426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800" spc="-1" strike="noStrike">
                <a:solidFill>
                  <a:srgbClr val="fda531"/>
                </a:solidFill>
                <a:latin typeface="Gill Sans"/>
                <a:ea typeface="ＭＳ Ｐゴシック"/>
              </a:rPr>
              <a:t>X</a:t>
            </a:r>
            <a:endParaRPr b="0" lang="en-US" sz="288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48" name="Group 4"/>
          <p:cNvGrpSpPr/>
          <p:nvPr/>
        </p:nvGrpSpPr>
        <p:grpSpPr>
          <a:xfrm>
            <a:off x="1535040" y="673200"/>
            <a:ext cx="4433760" cy="4227480"/>
            <a:chOff x="1535040" y="673200"/>
            <a:chExt cx="4433760" cy="4227480"/>
          </a:xfrm>
        </p:grpSpPr>
        <p:sp>
          <p:nvSpPr>
            <p:cNvPr id="549" name="Rectangle 5"/>
            <p:cNvSpPr/>
            <p:nvPr/>
          </p:nvSpPr>
          <p:spPr>
            <a:xfrm>
              <a:off x="1535040" y="673200"/>
              <a:ext cx="4433760" cy="422748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550" name="Picture 6" descr=""/>
            <p:cNvPicPr/>
            <p:nvPr/>
          </p:nvPicPr>
          <p:blipFill>
            <a:blip r:embed="rId2"/>
            <a:stretch/>
          </p:blipFill>
          <p:spPr>
            <a:xfrm>
              <a:off x="1535040" y="673200"/>
              <a:ext cx="4433760" cy="4227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914040" y="1752120"/>
            <a:ext cx="11341080" cy="712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747720" indent="-457200">
              <a:lnSpc>
                <a:spcPct val="80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ts </a:t>
            </a:r>
            <a:r>
              <a:rPr b="1" lang="en-US" sz="3200" spc="-1" strike="noStrike">
                <a:solidFill>
                  <a:srgbClr val="fee29d"/>
                </a:solidFill>
                <a:latin typeface="Gill Sans"/>
              </a:rPr>
              <a:t>purpos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is to improve the quality of life of nursing center residents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47720" indent="0">
              <a:lnSpc>
                <a:spcPct val="80000"/>
              </a:lnSpc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47720" indent="-457200">
              <a:lnSpc>
                <a:spcPct val="80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s law sets </a:t>
            </a:r>
            <a:r>
              <a:rPr b="1" lang="en-US" sz="3200" spc="-1" strike="noStrike">
                <a:solidFill>
                  <a:srgbClr val="fee29d"/>
                </a:solidFill>
                <a:latin typeface="Gill Sans"/>
              </a:rPr>
              <a:t>minimum training and competency evaluation requirements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r nursing assistants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47720" indent="0">
              <a:lnSpc>
                <a:spcPct val="80000"/>
              </a:lnSpc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47720" indent="-457200">
              <a:lnSpc>
                <a:spcPct val="80000"/>
              </a:lnSpc>
              <a:spcBef>
                <a:spcPts val="4799"/>
              </a:spcBef>
              <a:buClr>
                <a:srgbClr val="ffffff"/>
              </a:buClr>
              <a:buSzPct val="94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ach state must have a nursing assistant training and competency evaluation program (</a:t>
            </a:r>
            <a:r>
              <a:rPr b="1" lang="en-US" sz="3200" spc="-1" strike="noStrike">
                <a:solidFill>
                  <a:srgbClr val="fee29d"/>
                </a:solidFill>
                <a:latin typeface="Gill Sans"/>
              </a:rPr>
              <a:t>NATCEP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1465200" y="190440"/>
            <a:ext cx="62737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1fbf2"/>
                </a:solidFill>
                <a:latin typeface="Gill Sans"/>
                <a:ea typeface="ＭＳ Ｐゴシック"/>
              </a:rPr>
              <a:t>OBRA</a:t>
            </a:r>
            <a:endParaRPr b="0" lang="en-US" sz="9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. Senthilkumar</dc:creator>
  <dc:description/>
  <cp:keywords/>
  <dc:language>en-US</dc:language>
  <cp:lastModifiedBy>Marcia DeHaan</cp:lastModifiedBy>
  <dcterms:modified xsi:type="dcterms:W3CDTF">2011-07-20T21:55:55Z</dcterms:modified>
  <cp:revision>3</cp:revision>
  <dc:subject/>
  <dc:title>Slide 1</dc:title>
</cp:coreProperties>
</file>